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CDA-C79B-4E2C-9183-0754E7B7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F01-3F7D-45DB-A88D-A03E6BDE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6E7-7B08-45D5-9CD9-F12BC6DB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B2F-2D3A-4864-9878-EA03932F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79F-C180-49EF-8EF5-87D3C30F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588-9D64-47C0-B76E-DEBDFC40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079-B061-457C-9499-68F86392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7B8-C48B-4247-8CB0-6128CE5A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EE4-3EAA-4C31-89FD-999D0FAD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B86-A422-45B5-A310-55EB0412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9AC-7214-4147-AAAE-1991B3ED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6C4-E21C-4F97-8186-DC25267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812E-494E-4200-AC93-762B093ACF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fe of Christ, Part 2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 Pere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 10, Lesson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10:40-42, Luke 14:1 - 16: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s 110-1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, We Would See Jesu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4400" cy="6555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0" y="0"/>
          <a:ext cx="914400" cy="6555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14800" y="0"/>
          <a:ext cx="914400" cy="380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481640" y="380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114800" y="0"/>
          <a:ext cx="914400" cy="380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481640" y="380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sus withdraws to Perea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ohn 10:40-4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rossed over the Jordan to the region of Perea where John baptized in the early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onths remained until Jesus’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ea included Machaerus where John was behe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ea was ruled by Herod Antip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sus eats with a ruler of the Pharisees and heals a man on the sabbath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4:1-24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ealed a man on the sabbath as his enemies wat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knew their thoughts, questioned their int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sus eats with a ruler of the Pharisees and heals a man on the sabbath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4:1-24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aught a lesson in being humble when choosing seats at a marriage f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gave the basis for inviting g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ited guests refused the great su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d bought 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d bought ox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d recently mar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were invi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sus warns the multitudes about the cost of discipleship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4:25-35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rs must place Christ above all others, even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rs must consider the cost of following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rs must assess requirements when entering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great parabl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ost Sheep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5:1-3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proved the Pharisees concerning sinners that rep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pherd rejoiced when a lost sheep was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rejoicing over one that repents than ninety-nine who have been faithf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great parabl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ost Coin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5:1-3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oin is lost, diligent effort is applied to fin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rejoicing when the coin is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joy among the angels of God over one sinner who rep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great parabl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ost Son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5:1-3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ounger son received his inheritance and wasted it on riotous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came to himself, he realized that his father’s hired servants lived better than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n asked that he be as a hired ser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ast was prepared for the returning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hough the older son objected, his father rejoiced because his son was lost, and is f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condition of each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arable of the unjust steward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6:1-18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eward was accused of wasting his master’s money, so he was called to give an account of 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steward learned that he was to be fired, he plotted to avoid difficult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learned what the steward had done, and he commended him for acting shrewd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of this world are occasionally more shrewd in their temporal dealing than children of light in spiritual ma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rvant can serve two masters.  Our emphasis should be laying up treasures in hea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Ray Cooley</cp:lastModifiedBy>
  <dcterms:modified xsi:type="dcterms:W3CDTF">2006-07-14T23:22:19Z</dcterms:modified>
  <cp:revision>21</cp:revision>
  <dc:subject/>
  <dc:title>Life of Christ, Part 2 In Perea</dc:title>
</cp:coreProperties>
</file>